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gif" ContentType="image/gif"/>
  <Override PartName="/ppt/media/image12.jpeg" ContentType="image/jpeg"/>
  <Override PartName="/ppt/media/image13.jpeg" ContentType="image/jpeg"/>
  <Override PartName="/ppt/media/image8.jpeg" ContentType="image/jpeg"/>
  <Override PartName="/ppt/media/image5.png" ContentType="image/png"/>
  <Override PartName="/ppt/media/image7.jpeg" ContentType="image/jpeg"/>
  <Override PartName="/ppt/media/image15.gif" ContentType="image/gif"/>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0.jpeg" ContentType="image/jpeg"/>
  <Override PartName="/ppt/media/image14.gif" ContentType="image/gif"/>
  <Override PartName="/ppt/media/image21.jpeg" ContentType="image/jpeg"/>
  <Override PartName="/ppt/media/image17.gif" ContentType="image/gif"/>
  <Override PartName="/ppt/media/image16.gif" ContentType="image/gif"/>
  <Override PartName="/ppt/media/image1.jpeg" ContentType="image/jpeg"/>
  <Override PartName="/ppt/media/image22.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sldIdLst>
    <p:sldId id="256" r:id="rId34"/>
    <p:sldId id="257" r:id="rId35"/>
    <p:sldId id="258" r:id="rId36"/>
    <p:sldId id="259" r:id="rId37"/>
    <p:sldId id="260" r:id="rId38"/>
    <p:sldId id="261" r:id="rId39"/>
    <p:sldId id="262" r:id="rId40"/>
    <p:sldId id="263" r:id="rId41"/>
    <p:sldId id="264" r:id="rId42"/>
    <p:sldId id="26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BCAC5-4F54-48FD-A2BA-05C946BEC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B87F8-1B1E-4F99-8BF0-900A8D9C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9E6A3-638B-4BA9-8410-764CCB6BB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630FF-C7D4-4C66-8FA5-5562721258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5466D9-0020-419D-8595-3944C1619A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A24EB-6F43-41CA-9A79-F0B88A9D8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D25FD-B1E5-434F-860F-9214326CB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4FA4A-FB47-4FAB-A888-131CA17AF6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F591AB-0076-40FE-AF83-538EAFD3EC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1E5AEE-AA44-4456-BBA1-244419A273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FD3284-78DE-4E8C-8064-73C7FEDF3E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9F7ACD-66EA-4287-BF45-6193C4EE55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918BA-CC19-4CD3-8BD5-4EA6DB158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B3D829-958B-4CAA-9DED-D8143EFFD3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5390EF-9245-4555-8080-C536A4256B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4C948B-D2E7-4472-BBDD-C533462241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DEA65B-FEE7-4EAF-88D7-FDB3E3112D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72F1CA-AF5A-4BEB-A4D2-8F0EF586F9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585C39-558E-4E38-8821-0A8FE441D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811F0-A155-45A1-9B01-7B4A158D1B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978807-6123-44BD-928A-F1097406AE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A7A1B6-212B-4566-BF7D-E4C9F2D0A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FC32C2-E7B2-4D76-A941-26ED1F0CE7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F00ED-5899-4526-A6B4-AEAA5BA56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5FEEF4-1772-4B10-8370-2372FDD8D0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6534D5-5A9F-4E53-AE67-45170F2B4C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C7497D-E799-4F57-81FA-B96A742B80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C756112-CC41-4E75-8932-90F7F11E7AA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AAA67A-AAD6-4C36-BA70-9F24353649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D33CF8-7861-408C-9484-C09FE384FF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EEAE05-EEE8-4E11-8F66-458F071E03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216DA3-57F7-4125-AD5A-A1D1D27CB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93C550-8301-4BDC-9103-5483FC1AEE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85F71E-8F97-4A21-AA91-6A6773EEC8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E9B50D-E825-4511-AFA6-D58DF1D37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F71F7E-F79A-4620-8AEB-B4B376E798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A987D2-70B0-47C7-9AFB-D07A4C6C30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F633E9-FFFF-49C3-8D02-80B0645043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EDC495-FA6C-48FD-8FB1-A42EAAE0CE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73BD6F-EB45-4B20-B8BC-EE5AD6257C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238DCC-6B73-414B-9996-D1654BE69A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516D0A-8C96-4866-BF27-09A07AA055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62093C-834C-4A17-915E-BE08B4BB1C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2AB288-A604-48E6-B3FC-9798824AB8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A871C5-B2A9-41FA-B71B-A6687A2A12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D820F-69A3-4A92-B637-1A4D24FC2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720CF3-757E-4D96-A4F8-B1A723E4CC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5BAC71-7B43-4A54-9563-5714790C02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3EC878-C405-4697-9BC2-B9AA862BF6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13251C-9B51-48E5-A36F-3905D96C69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9DE9904-BF8C-45C9-8114-808D028EBB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43D7D8F-221C-4A54-A83C-F91D37D9AE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7670C2-A02A-45F6-A125-46BC52B0BD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EDBED-C2B0-4901-9D0B-D532868504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CBB077-842E-4763-91B7-A23F71BA8C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E604B4-F983-4E55-B4B5-BC94681C8F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FE532-01B1-4EE6-91B0-8DDD9FED9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D2315A-4024-4681-B8B5-534BDDFFC2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06019-C568-48AA-9E43-29EA3312D9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8957E7-368E-4C08-A126-DB0993F9BE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2BF990-5C3B-44DA-92CB-65B2EF413A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9E05D3-7D6C-4D93-ABDB-5CA73BDB02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4C0EEE-EAB0-4E84-A006-715911BF63F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F2C1ACD-3941-4922-AEB2-949D9EDC63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886DAE0-E30A-4639-8396-5700760882D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3A99A7-8E44-4DF4-819A-EEB0ACB1B1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0E1B95-B318-4E1D-A601-DF87819F7F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3D36C-327E-4BB0-B7E8-AFEBFC645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A70C30-CA3B-4E9B-A204-1EBA613218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FB6DE2-354A-4629-82FB-B11A42A7D4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C0FE1C-D7B2-4416-95DD-37B94BC132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A3412F-3FC4-426A-91E7-2EB22DDEFB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CB8DA2-FE4E-4040-9A93-19AE6B4970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C02B7C-A9D3-4952-A769-CBCE237DB7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93D7EE-CA08-4D2E-9D9F-38D410F3E0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5AABC7-977F-4DB9-8083-E4DFAF143B3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2857325-110D-401A-8F4D-C4C34664CC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A60E24ED-21E5-47B3-BA09-2F251F04A0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9C49A-6F59-4930-B0AD-969622B9A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F863D79B-F89D-48FA-806D-DA40B41B9A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80348E52-1213-4B48-B387-AAB5E11B9C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6D1F0F13-E2F8-4983-81EF-2F3B282F91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EFBE1675-DB67-47DA-A698-8281D86D9C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B320ECFC-02AC-4516-92F0-AC0EF04702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93C318A6-95A0-4B9D-A2B3-C3A706DDA9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4CF45D7C-331E-4C3A-B5CB-8153F9E36F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27AF1EE9-F829-4B32-8EBF-DA0EA2F0D2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4096408C-790A-444D-B4AC-1E0737B891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0E989D77-DD76-43DA-8B3D-FEACE8922D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41F13-9DF3-493F-8F50-36290194A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68B5534B-9685-42D5-8292-DACD57EF0B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6"/>
          </p:nvPr>
        </p:nvSpPr>
        <p:spPr/>
        <p:txBody>
          <a:bodyPr/>
          <a:p>
            <a:fld id="{E1178A66-926C-49C6-A192-4382A0E22C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857733F9-4979-48E2-90A1-9A7B71EBCE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6"/>
          </p:nvPr>
        </p:nvSpPr>
        <p:spPr/>
        <p:txBody>
          <a:bodyPr/>
          <a:p>
            <a:fld id="{1D1D9C01-6E50-4F57-967A-C9F7E9DC3A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AE21F9AF-C925-4EE2-BDF2-41AF05229C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BF3D57F9-9141-4A26-80AA-209C5EBB8F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6"/>
          </p:nvPr>
        </p:nvSpPr>
        <p:spPr/>
        <p:txBody>
          <a:bodyPr/>
          <a:p>
            <a:fld id="{E825DAE8-0A3B-4BC1-91B1-9C99B90E80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D64C3B93-079A-4406-9EC4-8DEFE7627C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A691297D-DDAB-47E8-9826-10CEA87C07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6"/>
          </p:nvPr>
        </p:nvSpPr>
        <p:spPr/>
        <p:txBody>
          <a:bodyPr/>
          <a:p>
            <a:fld id="{2B68D021-77D7-458C-9DB9-3D1A577536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28ADF-A74E-4593-A3DB-768D66C31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6"/>
          </p:nvPr>
        </p:nvSpPr>
        <p:spPr/>
        <p:txBody>
          <a:bodyPr/>
          <a:p>
            <a:fld id="{786F0E1A-043E-4C7E-8383-A09242A26E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6"/>
          </p:nvPr>
        </p:nvSpPr>
        <p:spPr/>
        <p:txBody>
          <a:bodyPr/>
          <a:p>
            <a:fld id="{8CBF174A-C877-4B63-BAC2-C8732C3599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6"/>
          </p:nvPr>
        </p:nvSpPr>
        <p:spPr/>
        <p:txBody>
          <a:bodyPr/>
          <a:p>
            <a:fld id="{86BBFD6D-6885-4BB0-AAEF-9147267DB6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3D32BF4-8575-4435-897B-ED0D3CC7815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8D9FD2D-F140-49DB-8AA1-FD9DB4E9DD9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67F859-2422-4B3B-A899-02C7B3EA7E8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62C8668-4FBD-47F0-A70A-35BD0DCB88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B3677FD-8A61-49EA-B6E9-7E63E3D51CC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A8C123-A1CE-43DF-9B6C-A65B990FB1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CF0ECE-26F6-49B2-95A1-3E1BBAB9CE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5814D-5949-43D7-9FF3-5FBE8F2E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FD103-6793-451F-98A8-2378E957C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1D7254F-48BD-431B-B758-E182673197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99FE2CC-3EEA-4C67-96E4-BD909E8AE4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9C60FCB-BB9F-46A3-89BF-5E4DE4DF21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3204944-5C4F-4DCA-9BFD-963E2F72302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6643669-EDFE-4763-A95F-105DB002439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0556A626-8CD2-425F-9A19-92D0ECBF1E41}"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1B3F18EF-C950-4A8C-8ABD-330F46F8072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025E2648-27C9-4014-8DFB-582175D655F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F108DA40-1C9E-4843-B229-63EAF0FF0579}"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BF2C3510-824E-4596-9951-C0BEE4E5172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ADC1A-936A-4903-A377-194321AFA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042A86E0-2FC9-4BBC-9055-90241AE3738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3A25A6F3-7DA8-421E-BCE3-192EF741A5E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C8AE1EDB-0BF6-4B5E-9DA1-5AFC4E18C66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0B914FDB-050A-4571-AA7D-58BBBDA6B28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4ECA4AA0-4E4E-4BCF-B406-89701D83BE9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6F9685D9-2190-45BC-AC8B-819C1BCEBD3A}"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D2C86144-EAEA-4E01-9C3A-69A69C1EFF0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1F1A38B-547C-4695-9C3B-BFC4E049ED3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FCB238-AAF2-4BE4-8278-1CA727EB75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6792E8-FC65-49EB-8D80-C209F72470E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985A-0FFC-49E7-888B-33865C972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A0B3F65-66FC-437A-AF62-7593288AD9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0D6687-91AF-4E01-B5D4-964462A0BF7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C182BBA-A6E4-4E10-B716-A1FFF50A813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882C75-47C2-43CA-BCC2-D9DDA547444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7A74E3-B96C-49AE-ABC7-303595FAF0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C4ED369-10CF-4709-AC22-C99D755C68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CD4EE5A-3192-4E80-AB7B-8BB4A5D37A4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C689441-4A78-4DBA-B801-B47EC26F1F0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55CD212-3DAB-4154-B5B5-D001FB32294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AD6EC8B-D579-42C8-AEB7-0ED0BDEDD10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6416D-3976-463C-B3C5-27CB32195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171548C-6B50-4867-82B4-5CE07F7739A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A31FBD7-98C9-4BDB-A0F3-E0BE4661F31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4601EF6-D35B-4A19-BA51-5022D7A278F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73DA99A-F905-4CEB-8F4D-76F5FC4B476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E26D6E9-905E-46A6-8AC9-54A377255A9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A4727C4-957A-4A4B-9E6F-BABCF4914A8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AA83127-6DAD-4E6D-9F66-A6211CA6652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BED9D60-81DE-4178-8D23-D43455B833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BD6266A-3FC0-406F-96E8-05A2A755D0D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BDFC8E2-3915-4FA4-B085-89508CB4F80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8BE94-23F8-43FA-94ED-6850186B8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1DC3156-AF20-45B9-9DF2-29C3EEE5E34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3"/>
          </p:nvPr>
        </p:nvSpPr>
        <p:spPr/>
        <p:txBody>
          <a:bodyPr/>
          <a:p>
            <a:fld id="{9C34E09B-E23F-4E1B-AD76-F235F25525F8}"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3"/>
          </p:nvPr>
        </p:nvSpPr>
        <p:spPr/>
        <p:txBody>
          <a:bodyPr/>
          <a:p>
            <a:fld id="{9AA4CFAE-5941-48B2-9B11-E059C5D687D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3"/>
          </p:nvPr>
        </p:nvSpPr>
        <p:spPr/>
        <p:txBody>
          <a:bodyPr/>
          <a:p>
            <a:fld id="{81244CB8-2079-45E5-BAF8-761B7EF0302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3"/>
          </p:nvPr>
        </p:nvSpPr>
        <p:spPr/>
        <p:txBody>
          <a:bodyPr/>
          <a:p>
            <a:fld id="{1AA03BAA-DE57-47A3-AFFF-917C7ACDECE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3"/>
          </p:nvPr>
        </p:nvSpPr>
        <p:spPr/>
        <p:txBody>
          <a:bodyPr/>
          <a:p>
            <a:fld id="{21EBB5F3-8BC7-48F2-AE6C-02354F9E619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3"/>
          </p:nvPr>
        </p:nvSpPr>
        <p:spPr/>
        <p:txBody>
          <a:bodyPr/>
          <a:p>
            <a:fld id="{6303C63D-1AFA-4450-BA92-C21C577C562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3"/>
          </p:nvPr>
        </p:nvSpPr>
        <p:spPr/>
        <p:txBody>
          <a:bodyPr/>
          <a:p>
            <a:fld id="{4C188DEB-92A3-42A5-A6DF-A74D5011B15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3"/>
          </p:nvPr>
        </p:nvSpPr>
        <p:spPr/>
        <p:txBody>
          <a:bodyPr/>
          <a:p>
            <a:fld id="{FC15FE30-51E8-445D-9A28-6CC7633B45F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3"/>
          </p:nvPr>
        </p:nvSpPr>
        <p:spPr/>
        <p:txBody>
          <a:bodyPr/>
          <a:p>
            <a:fld id="{7FEA5874-1C3B-4D18-BF2F-52930097556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53077A-90A0-4CA4-A0E6-C78A876DB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3"/>
          </p:nvPr>
        </p:nvSpPr>
        <p:spPr/>
        <p:txBody>
          <a:bodyPr/>
          <a:p>
            <a:fld id="{D451D459-28FE-4D25-B061-89B785933AEE}"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3"/>
          </p:nvPr>
        </p:nvSpPr>
        <p:spPr/>
        <p:txBody>
          <a:bodyPr/>
          <a:p>
            <a:fld id="{CE30BC85-A204-477B-968F-07A6752C426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3"/>
          </p:nvPr>
        </p:nvSpPr>
        <p:spPr/>
        <p:txBody>
          <a:bodyPr/>
          <a:p>
            <a:fld id="{3B6AE515-2A7F-4213-A930-7A1948B897D9}"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08A2C06-A9A4-4F3C-B455-2E3842F2492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139CAB7-F5B5-448C-BD9A-F28DD5F7705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D4E8CF5-3D42-41E2-8548-C55495E4AE4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68BEA07-5262-448E-B4B5-0937148EB37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EA650D6-1FD3-43EA-9086-11A5629016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079FD71-049F-48CB-8152-2CB9F2009CA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BFC3EE-9EA4-4357-AE4B-7CD8F6E3D0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8B0E7-5C2C-41C7-907C-C29174775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29388F9-CB8B-4ABF-8EAD-711A432A76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7295B89-D673-469B-8792-1C48F60EE3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1F53E29-58F9-4474-AA4A-45565A4679D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FE6AABB-2826-4E92-B007-57C634D2ECD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BE12B23-4AEE-4F14-8FB1-C6C843402D0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BE2BDED-4F48-4F2A-8DB6-289B58DC3E8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620F906-D59E-4D4C-9648-EAEABDE8F82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A83080E-94BE-41FD-BAA9-716201474B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3902656-C845-46BB-86CA-4BE50BCBCE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CDEFA22-985F-42D8-8F0D-2931AAEAD65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601EB-6576-407E-AC30-38964FCAA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176ED80-D593-432F-B69B-33E1D4B2516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BFB6BE5-1F38-4910-A75A-1EAADA20AC6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4AB53FD-B33F-4FAD-925C-C4F874FA05D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56E6446-459A-400C-B4B7-2963F9B21F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065EEE3-1177-411C-960E-37648F372A6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F009019-438B-49BD-AC59-B2D0BEBAA6A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029BD2B-7893-47A3-99E9-616CB1A7E38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8C5E279-A80D-4818-9019-A64E75C540A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597E8BD-733C-4AA5-BC91-182FF2D8738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E0CC979-359F-4B88-8DA6-C77D1293E49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C099F-1881-46ED-9074-467F86259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7BEC6B7-9692-457D-B6B1-25A56E16DA9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E3231A-F47A-4C02-AFDC-2EB46E30CC2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DE21AC3-B58C-462A-A81A-0053A969305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4AB6CFD-A3FA-4757-B00A-8B578C7CDB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0F0F2D0-CE2C-4D80-ADA0-0790B355CC7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041EF7C-A875-42FD-AA09-28895855D5F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0A49C03-52F8-42E1-A548-A6D0624AF2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E15482B-E11E-4EF5-8EAB-37E66A21747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9361E59-AC3F-48D2-8A38-F389FF2BD1D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CFC1034-854E-47D7-95C4-858A8B24547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B2FB8-26A4-4749-925B-F7F42785E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E29242B-FBD2-4882-A322-A48F4B6F2A7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C24ACA3-CDD8-4EBD-A142-B5B49BFB95A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392E5E5-5095-43AA-885F-42A7BF1DE52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6EE1546-30ED-4679-A380-4D7059FFECB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C2C1ED0-37D8-4024-99C5-A371A133432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504C637-35C4-4BB5-8FD8-BC35D19C707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D5F2095-E994-4A74-AD96-22C78D2A1D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1DEBA36-8397-4A02-8726-555F4D14BF2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CE2425F-3C61-48F1-9764-79EFC5D373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E837BE8-C1C3-450D-947A-C4AF923449D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6A3D5-C577-4C89-A9AF-65C81411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F4F34-A2C8-4376-A685-F7A8122DB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DE40D81-3B3A-42C1-8942-4D80188DDA2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6"/>
          </p:nvPr>
        </p:nvSpPr>
        <p:spPr/>
        <p:txBody>
          <a:bodyPr/>
          <a:p>
            <a:fld id="{A55E9D51-85EB-466A-A439-4BBF743C3CEC}"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D79907A2-FD29-42DB-9CA2-133E5EDAF743}"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6"/>
          </p:nvPr>
        </p:nvSpPr>
        <p:spPr/>
        <p:txBody>
          <a:bodyPr/>
          <a:p>
            <a:fld id="{0131A984-C5AD-42ED-895B-B8965B89C4B1}"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D508A452-2AE5-43C5-942F-3B1A8458826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A9B2BEB6-0497-4639-83C4-263EAC2F0A98}"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6"/>
          </p:nvPr>
        </p:nvSpPr>
        <p:spPr/>
        <p:txBody>
          <a:bodyPr/>
          <a:p>
            <a:fld id="{BA7434E3-19CB-45A3-9A68-D1F9C6986622}"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6FB74146-E8A7-436E-B7CB-3950A45981E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6A9C2F91-1E54-4654-9D21-EBD1EC0982D3}"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6"/>
          </p:nvPr>
        </p:nvSpPr>
        <p:spPr/>
        <p:txBody>
          <a:bodyPr/>
          <a:p>
            <a:fld id="{F8019D1D-2D6B-46F1-B5EF-2780F7154CCD}"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6A112-DB92-4DAF-9BA0-282A6693F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6"/>
          </p:nvPr>
        </p:nvSpPr>
        <p:spPr/>
        <p:txBody>
          <a:bodyPr/>
          <a:p>
            <a:fld id="{9849645E-1AA8-41A7-A649-6417D5C2E429}"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6"/>
          </p:nvPr>
        </p:nvSpPr>
        <p:spPr/>
        <p:txBody>
          <a:bodyPr/>
          <a:p>
            <a:fld id="{3E738E4E-46CA-47D8-81B0-5422A6F4741C}"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6"/>
          </p:nvPr>
        </p:nvSpPr>
        <p:spPr/>
        <p:txBody>
          <a:bodyPr/>
          <a:p>
            <a:fld id="{D3FFC0D9-1287-4F7E-947A-0922EBC2768A}"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79"/>
          </p:nvPr>
        </p:nvSpPr>
        <p:spPr/>
        <p:txBody>
          <a:bodyPr/>
          <a:p>
            <a:fld id="{087BE4FB-FD6F-43A6-8ABA-E37676EB1E49}"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C8FE4574-9A9B-44BB-81F3-1CD5C0E61D05}"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79"/>
          </p:nvPr>
        </p:nvSpPr>
        <p:spPr/>
        <p:txBody>
          <a:bodyPr/>
          <a:p>
            <a:fld id="{5CCEE952-1BCB-46E6-BAEF-3E8E9767A8A5}"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2501B6E3-218F-4861-8D4F-62AED82CF65D}"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98A81E2D-EF34-4593-A9CE-591E6B071B04}"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79"/>
          </p:nvPr>
        </p:nvSpPr>
        <p:spPr/>
        <p:txBody>
          <a:bodyPr/>
          <a:p>
            <a:fld id="{F00D5DE3-1238-4CED-917F-CEABF06E0F5E}"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86EF295A-6C6B-41FB-945E-C10ADE51351A}"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3998A-1408-4AA6-B8A1-F89FDCC2E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4AC633CA-031B-4709-B0B0-30C1F492C0A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79"/>
          </p:nvPr>
        </p:nvSpPr>
        <p:spPr/>
        <p:txBody>
          <a:bodyPr/>
          <a:p>
            <a:fld id="{D61E9B8F-89A1-421A-AB82-7C491813903F}"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79"/>
          </p:nvPr>
        </p:nvSpPr>
        <p:spPr/>
        <p:txBody>
          <a:bodyPr/>
          <a:p>
            <a:fld id="{95B545CA-8F66-4664-BC97-EEC63287A10D}"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79"/>
          </p:nvPr>
        </p:nvSpPr>
        <p:spPr/>
        <p:txBody>
          <a:bodyPr/>
          <a:p>
            <a:fld id="{FD40A925-1D15-41B9-9109-CE41FACFA8DC}"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79"/>
          </p:nvPr>
        </p:nvSpPr>
        <p:spPr/>
        <p:txBody>
          <a:bodyPr/>
          <a:p>
            <a:fld id="{1EDC78DC-4587-4C1A-A57D-A235889E7FEF}"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68202F4-B40E-41C1-8BA9-2412AC7AC65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1F20C79-EEE9-4771-9C57-B638E27560B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75E0997-11E4-4447-9980-CC2AC08311C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87C8371-49ED-4041-8BAA-53E0D0789EC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97B6D5F-628D-4B6A-A7A7-5CBAEE87229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31A13-E76E-4236-991C-55BCA2091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D75E089-63D7-42BB-AC03-E22AB72FDDF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57E0BAB-D1F3-42F8-9E38-FF1D76D85B6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6F68C55-9C54-4E28-B622-B79D043F72B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4FED204-C7D2-4B69-B37D-2A8F6630C30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9B129C8-36D3-4860-A4AA-F3A393DC7B5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B1C89CE-673D-4ADD-A2F4-CCA90B388D4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C956C80-FA93-4A79-8EE9-A998D79F767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5"/>
          </p:nvPr>
        </p:nvSpPr>
        <p:spPr/>
        <p:txBody>
          <a:bodyPr/>
          <a:p>
            <a:fld id="{DD1F0684-0288-4C58-9C86-08919BC30393}"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6956654C-1A06-41C4-BFEE-AC06980A07C1}"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5"/>
          </p:nvPr>
        </p:nvSpPr>
        <p:spPr/>
        <p:txBody>
          <a:bodyPr/>
          <a:p>
            <a:fld id="{0A23B966-8645-4C06-B925-3AA61C7C62CB}"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2D859-6112-4DF6-A4A3-AAAEB4C6F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DCBF6BB2-9A11-41C7-8817-0F5352B0C820}"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F7017459-B1DE-4C6B-886E-7B271D698347}"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5"/>
          </p:nvPr>
        </p:nvSpPr>
        <p:spPr/>
        <p:txBody>
          <a:bodyPr/>
          <a:p>
            <a:fld id="{E92F2B16-F2BB-4B89-90B7-99B7D7564C58}"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2C88E7D7-3656-4070-9346-C0D67FADE3E3}"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3CBEE613-E28A-474B-8360-C576F5AAEBB1}"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5"/>
          </p:nvPr>
        </p:nvSpPr>
        <p:spPr/>
        <p:txBody>
          <a:bodyPr/>
          <a:p>
            <a:fld id="{15178574-9175-4A63-A0DE-C97C4ABF15D8}"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5"/>
          </p:nvPr>
        </p:nvSpPr>
        <p:spPr/>
        <p:txBody>
          <a:bodyPr/>
          <a:p>
            <a:fld id="{CAC0BC57-2E7B-4230-A96A-15F7C7F50A37}"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5"/>
          </p:nvPr>
        </p:nvSpPr>
        <p:spPr/>
        <p:txBody>
          <a:bodyPr/>
          <a:p>
            <a:fld id="{BCBA03D9-2FE0-4B2E-BA3F-A0157A177E49}"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5"/>
          </p:nvPr>
        </p:nvSpPr>
        <p:spPr/>
        <p:txBody>
          <a:bodyPr/>
          <a:p>
            <a:fld id="{D23F212A-04BF-4D2F-A6EF-4AABD2CEE9DE}"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FE67D7C-CDB5-498B-963A-1AEA0DB4688D}"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B05F66-C833-4F9F-982D-0C19A43E4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D1A41CE-AB4C-4C13-BA50-2282297D277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C1A5429-1641-4371-949F-B7479E4AE9C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49F33D8-B17E-4ADA-B9D7-3D33CDC09F4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7FA6C67-AC03-45CB-BA24-29A1034FE4A9}"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FA662FA-B8EC-4A7B-9FFE-79B2D7694D4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3D5E4B2-A3F7-4D29-B360-37A9DDA17C1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D474076-AB86-4CDD-9126-98278100DBA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E9EBC99-2EE1-4149-B654-E0EA430E0FA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0A7B0AD-E4F7-4DB5-B004-9B0AE9BE02B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62EB368-63DC-406D-9BFD-9F4B362662D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D759BB-8B54-476F-B63E-7F96EF1743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A5A45E6-0D71-443F-A23B-F8D9648E4094}"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CEEF03C-AD73-4DE4-A357-FC7233EFF7D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13F00AE-57FB-4406-AD78-331044D1B59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2081722-9A30-4B16-84AE-DDBC9A5A5E4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8255395-FEAC-450F-B618-C4510C3FDEF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A365FD4-F854-423A-B292-7E559978AE3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D003CD6-D900-4B59-BE27-36A8FD7FD582}"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358C1A2-D86F-4F40-BBE7-AF62C7627E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8A5374F-EDF5-4EC4-A2AF-AF829A6FE30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5FBF18C-7506-431F-89AB-67B65E85FCE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727579-9EE5-49CB-9E18-CDECC83C3F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8D7679B-E159-4ECE-B46C-39EBC93CE3C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F490FF5-A397-4115-89D3-89501358F52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7544E42-BBED-4D60-8853-B6FF5F83CBD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D14A572-7199-4617-8AB9-0B288F8F55E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B2F0F5F-6525-4A36-ACAB-8B515967C56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A2F7148-985E-45BC-9E6B-E4A85B5BD9F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DB9134B-580E-4008-9F28-F76A0932EA9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CF08EBF-6BC8-432E-9337-1F2FF4EDDB3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525FEB4-83BE-4BDB-B9EE-EA8A3B1BFFA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CB57589-1DF4-4C5D-AFDF-57491E171E1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20631C-C707-4538-9850-045C5590F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7A0C1F1-781B-4446-BF57-A063F032923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40FCE13-C22F-46BF-804C-4C3F1D2F9A1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E5021FC-7E65-40F9-BAD2-CF9D90C8CF7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1DD6F78-03B8-4902-A12A-B2D2CC8658B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4D753BF-DB4F-4B94-A252-0C408383403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D4BE10-FA65-4AED-8B56-9716D7862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77DE-2F66-4B2D-B89F-7279115C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52935-765F-4A8A-B1F9-5D1E857818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5EECD9-631F-48BC-BA8B-5D89AAA21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058FC-8C7A-40B0-BBA6-A3CDFE040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18120C-809D-4216-A5E0-0BFA50FE5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B07B0-DEC0-4CBA-B4EC-FA1CD2C58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13BDB-6269-401D-A4A6-010C44B9B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0EC0E-F379-4B75-BC36-3E5EAADF6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ACBF5E-C462-43BD-ACAE-FBADBE102C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78FA04-1068-4CE0-A592-4865D9934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EC728-1F23-4284-8CAE-5EFF7DC8C5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A727-1AA8-403B-8C0C-0662D67B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CD781-6A40-4289-875D-E3438764C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5EC46B-7864-4DD9-8CE8-2C513E3D1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EE3DB-47FF-4CAA-AC0F-52B3E3F9AA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9F05A-8F0F-4705-AA89-A022246D23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0A3E4A-CBB2-453D-B446-FB8C3A234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1A509-E4C1-4D94-A7FA-9DA7E882C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FECBD-A77D-4463-912C-68CA28890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5B71F-EED9-424B-8D98-D058B227E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7FDAE-1F01-41DB-916A-6B44C27B9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3DBC5E-4430-4BD3-8011-852597E0B8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7345D-778C-443A-A517-88BE839D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5966F4-38D2-48C3-979E-AB3D30ED15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3B471B-D0B5-404D-B3E0-399CD6A640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DCFBC-3A40-4A1E-9E8F-841855984A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276D4-641E-4035-BA49-5951789C61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5883C4-A966-4111-9958-1DABDF29A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8038C-800F-4CC7-903F-79E17C408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CCB22-3B36-403E-9EB5-C5228C92C8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CEC3FF-D8AD-48B4-9F0B-F91B1149E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53F93-73B7-44A4-BD01-248E4EFBF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33971-B1AD-43A8-8D5F-BAC7FAA54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A89A-16B5-4F19-A007-39459911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CCB6DB-8827-49B2-91FF-3B11727851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B8605-89D0-4BF1-A246-7C3E8C1F10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ED85C6-5272-4CBB-9A10-52F82E1F6D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F9B8DC-18AA-4866-B45A-F759558482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A19C4-DBAE-4D69-BF8B-C813922386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F5C31-2AED-4B10-BC70-A1DEE30327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D8560-BDE7-4D6C-99EA-4AA8E78F4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4E0DFC-0F54-4C7F-B7BD-079F84133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A19CC-974F-4878-A28B-619A1372C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8D1F5B-9D9A-41F3-BAAD-6C06BFF89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2CE84-12D5-4041-81D1-AEF59E7D2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4AE087-DF82-4AFE-9604-AE46B6B44B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E75D8-FE8C-4D40-ABD3-7918D7CD5D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B41C5F-D377-4E4E-95EF-EB8901CD97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FBD8B2-2234-4029-AA0E-8A70F21964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48F239-5D54-4D7A-91ED-75756FB6BB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DFA5F2-4AC5-447E-8165-716336C7A0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97C0F-E92A-44EA-99A2-7D677ECB50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66E6B7-6D10-4747-853A-CCABB8B242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6AFCC-BF43-4AD5-8C8B-ACB42A189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C3F4D-D83B-4FA3-BFCB-092FB3F837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334F-3E53-4BB7-8BFD-3088C8468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83C08B-76B8-4059-864A-8FB190B05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64614-FC3E-471F-8537-198052261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21A3A-6797-4F37-AFA5-32FFDF949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A350A1-C5D6-4962-9575-AD3B68988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3520FE-0858-421E-8087-C887BCC0C0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7EF7CD-D7F7-48B4-9CE4-6F4E791CF6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567D4E-5644-4423-9F79-3FA0ED76A6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A6CC65-02A9-4DD2-A78C-EF1127A507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F7D8CC-70B1-42E6-9EEA-DD1C9D54B6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002AA6-30CC-4B89-89FE-01CD55A1BD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AF4F-2FF9-4477-B2FB-F2E47E1F0650}"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8"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9"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0"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1"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2"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3"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454"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5"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8" name="PlaceHolder 3"/>
          <p:cNvSpPr>
            <a:spLocks noGrp="1"/>
          </p:cNvSpPr>
          <p:nvPr>
            <p:ph type="ftr" idx="2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59" name="PlaceHolder 4"/>
          <p:cNvSpPr>
            <a:spLocks noGrp="1"/>
          </p:cNvSpPr>
          <p:nvPr>
            <p:ph type="dt" idx="2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0"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646F-AAC0-4124-8C7D-0342B6EAEE6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06"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9" name="PlaceHolder 3"/>
          <p:cNvSpPr>
            <a:spLocks noGrp="1"/>
          </p:cNvSpPr>
          <p:nvPr>
            <p:ph type="dt" idx="31"/>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0"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1"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B060-43E6-4444-9640-FBA432CB5533}"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8"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49"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0"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1"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2"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3"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4"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5"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56"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7"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8"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1" name="PlaceHolder 3"/>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2" name="PlaceHolder 4"/>
          <p:cNvSpPr>
            <a:spLocks noGrp="1"/>
          </p:cNvSpPr>
          <p:nvPr>
            <p:ph type="ftr" idx="35"/>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3" name="PlaceHolder 5"/>
          <p:cNvSpPr>
            <a:spLocks noGrp="1"/>
          </p:cNvSpPr>
          <p:nvPr>
            <p:ph type="sldNum" idx="36"/>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7663-4830-4E82-AD2D-B65D4591C0F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6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1"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2"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13" name="PlaceHolder 5"/>
          <p:cNvSpPr>
            <a:spLocks noGrp="1"/>
          </p:cNvSpPr>
          <p:nvPr>
            <p:ph type="sldNum" idx="39"/>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1B05-65D7-4A0B-8885-16F905C9B422}"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1"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2"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4"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5"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8"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59"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60" name="PlaceHolder 5"/>
          <p:cNvSpPr>
            <a:spLocks noGrp="1"/>
          </p:cNvSpPr>
          <p:nvPr>
            <p:ph type="sldNum" idx="42"/>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F399-771C-4CD3-B1A5-F6EF2DF1EFD2}"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8"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99"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0"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1"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2"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3"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4"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705"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6"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7"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10" name="PlaceHolder 3"/>
          <p:cNvSpPr>
            <a:spLocks noGrp="1"/>
          </p:cNvSpPr>
          <p:nvPr>
            <p:ph type="sldNum" idx="43"/>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4C46-1F5D-46C9-9546-1FE628C51A2F}"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11" name="PlaceHolder 4"/>
          <p:cNvSpPr>
            <a:spLocks noGrp="1"/>
          </p:cNvSpPr>
          <p:nvPr>
            <p:ph type="dt" idx="4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12" name="PlaceHolder 5"/>
          <p:cNvSpPr>
            <a:spLocks noGrp="1"/>
          </p:cNvSpPr>
          <p:nvPr>
            <p:ph type="ftr" idx="45"/>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750"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2"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3"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4"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5"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6"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7"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8"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59"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7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62" name="PlaceHolder 3"/>
          <p:cNvSpPr>
            <a:spLocks noGrp="1"/>
          </p:cNvSpPr>
          <p:nvPr>
            <p:ph type="sldNum" idx="4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B514-0ED1-47A4-BDF4-DF6D1478060A}"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63" name="PlaceHolder 4"/>
          <p:cNvSpPr>
            <a:spLocks noGrp="1"/>
          </p:cNvSpPr>
          <p:nvPr>
            <p:ph type="dt" idx="47"/>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64" name="PlaceHolder 5"/>
          <p:cNvSpPr>
            <a:spLocks noGrp="1"/>
          </p:cNvSpPr>
          <p:nvPr>
            <p:ph type="ftr" idx="48"/>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80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0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2" name="PlaceHolder 3"/>
          <p:cNvSpPr>
            <a:spLocks noGrp="1"/>
          </p:cNvSpPr>
          <p:nvPr>
            <p:ph type="dt" idx="4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13"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14"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A1A2-D354-4B89-80C9-FB2FA89996E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2"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3"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4"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5"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6"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7"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858"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59"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2" name="PlaceHolder 3"/>
          <p:cNvSpPr>
            <a:spLocks noGrp="1"/>
          </p:cNvSpPr>
          <p:nvPr>
            <p:ph type="sldNum" idx="52"/>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53B5-3F6E-4A2E-90FF-6215E7E4582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63" name="PlaceHolder 4"/>
          <p:cNvSpPr>
            <a:spLocks noGrp="1"/>
          </p:cNvSpPr>
          <p:nvPr>
            <p:ph type="dt" idx="5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64" name="PlaceHolder 5"/>
          <p:cNvSpPr>
            <a:spLocks noGrp="1"/>
          </p:cNvSpPr>
          <p:nvPr>
            <p:ph type="ftr" idx="5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1"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2"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4"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5"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6"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90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8"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09"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2"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13"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14" name="PlaceHolder 5"/>
          <p:cNvSpPr>
            <a:spLocks noGrp="1"/>
          </p:cNvSpPr>
          <p:nvPr>
            <p:ph type="sldNum" idx="57"/>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8CBE-AE04-4B48-94D1-FDED898E115A}"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5"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5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1"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E3A2-9846-4111-BA51-0440281037A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6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5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5"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6"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7"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958"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59"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6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62"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63"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4" name="PlaceHolder 5"/>
          <p:cNvSpPr>
            <a:spLocks noGrp="1"/>
          </p:cNvSpPr>
          <p:nvPr>
            <p:ph type="sldNum" idx="60"/>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93B7-5734-4E23-934F-8FADBF48097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3"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4"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5"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6"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7"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8"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09"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10"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1"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14" name="PlaceHolder 3"/>
          <p:cNvSpPr>
            <a:spLocks noGrp="1"/>
          </p:cNvSpPr>
          <p:nvPr>
            <p:ph type="ftr" idx="6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5"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16" name="PlaceHolder 5"/>
          <p:cNvSpPr>
            <a:spLocks noGrp="1"/>
          </p:cNvSpPr>
          <p:nvPr>
            <p:ph type="sldNum" idx="63"/>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CE06-C251-4E58-BE0C-7610FBE35FB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5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6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2"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0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65" name="PlaceHolder 3"/>
          <p:cNvSpPr>
            <a:spLocks noGrp="1"/>
          </p:cNvSpPr>
          <p:nvPr>
            <p:ph type="dt" idx="64"/>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66" name="PlaceHolder 4"/>
          <p:cNvSpPr>
            <a:spLocks noGrp="1"/>
          </p:cNvSpPr>
          <p:nvPr>
            <p:ph type="ftr" idx="6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67" name="PlaceHolder 5"/>
          <p:cNvSpPr>
            <a:spLocks noGrp="1"/>
          </p:cNvSpPr>
          <p:nvPr>
            <p:ph type="sldNum" idx="6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4CB9-2ED6-4E9E-ABD1-C5B18059D3F5}"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04"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105"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8"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9"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0"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1"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112"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3"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4"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7"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18" name="PlaceHolder 4"/>
          <p:cNvSpPr>
            <a:spLocks noGrp="1"/>
          </p:cNvSpPr>
          <p:nvPr>
            <p:ph type="ftr" idx="68"/>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9" name="PlaceHolder 5"/>
          <p:cNvSpPr>
            <a:spLocks noGrp="1"/>
          </p:cNvSpPr>
          <p:nvPr>
            <p:ph type="sldNum" idx="69"/>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3677-FFC6-44BE-9608-51C35D190DF5}"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16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67" name="PlaceHolder 3"/>
          <p:cNvSpPr>
            <a:spLocks noGrp="1"/>
          </p:cNvSpPr>
          <p:nvPr>
            <p:ph type="dt" idx="7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68" name="PlaceHolder 4"/>
          <p:cNvSpPr>
            <a:spLocks noGrp="1"/>
          </p:cNvSpPr>
          <p:nvPr>
            <p:ph type="ftr" idx="7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9" name="PlaceHolder 5"/>
          <p:cNvSpPr>
            <a:spLocks noGrp="1"/>
          </p:cNvSpPr>
          <p:nvPr>
            <p:ph type="sldNum" idx="72"/>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5828-3FD0-47FF-973C-CF43CD66C03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8"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0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0"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1"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14" name="PlaceHolder 3"/>
          <p:cNvSpPr>
            <a:spLocks noGrp="1"/>
          </p:cNvSpPr>
          <p:nvPr>
            <p:ph type="dt" idx="7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215" name="PlaceHolder 4"/>
          <p:cNvSpPr>
            <a:spLocks noGrp="1"/>
          </p:cNvSpPr>
          <p:nvPr>
            <p:ph type="ftr" idx="7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16" name="PlaceHolder 5"/>
          <p:cNvSpPr>
            <a:spLocks noGrp="1"/>
          </p:cNvSpPr>
          <p:nvPr>
            <p:ph type="sldNum" idx="75"/>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86E7-B07C-48BF-9BF5-19E683F68716}"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4"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5"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6"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7"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8"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9"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0"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261"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2"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3"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266" name="PlaceHolder 3"/>
          <p:cNvSpPr>
            <a:spLocks noGrp="1"/>
          </p:cNvSpPr>
          <p:nvPr>
            <p:ph type="sldNum" idx="76"/>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A4BE-DF0E-4E9C-97B6-BAFC8D7D35D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67" name="PlaceHolder 4"/>
          <p:cNvSpPr>
            <a:spLocks noGrp="1"/>
          </p:cNvSpPr>
          <p:nvPr>
            <p:ph type="dt" idx="7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268" name="PlaceHolder 5"/>
          <p:cNvSpPr>
            <a:spLocks noGrp="1"/>
          </p:cNvSpPr>
          <p:nvPr>
            <p:ph type="ftr" idx="78"/>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30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8"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9"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0"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1"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2"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3"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4"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5"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318" name="PlaceHolder 3"/>
          <p:cNvSpPr>
            <a:spLocks noGrp="1"/>
          </p:cNvSpPr>
          <p:nvPr>
            <p:ph type="sldNum" idx="7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4A2E-D9A7-491E-8DBE-1F298277025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319" name="PlaceHolder 4"/>
          <p:cNvSpPr>
            <a:spLocks noGrp="1"/>
          </p:cNvSpPr>
          <p:nvPr>
            <p:ph type="dt" idx="80"/>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320" name="PlaceHolder 5"/>
          <p:cNvSpPr>
            <a:spLocks noGrp="1"/>
          </p:cNvSpPr>
          <p:nvPr>
            <p:ph type="ftr" idx="81"/>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35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36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368" name="PlaceHolder 3"/>
          <p:cNvSpPr>
            <a:spLocks noGrp="1"/>
          </p:cNvSpPr>
          <p:nvPr>
            <p:ph type="dt" idx="8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369" name="PlaceHolder 4"/>
          <p:cNvSpPr>
            <a:spLocks noGrp="1"/>
          </p:cNvSpPr>
          <p:nvPr>
            <p:ph type="ftr" idx="8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70" name="PlaceHolder 5"/>
          <p:cNvSpPr>
            <a:spLocks noGrp="1"/>
          </p:cNvSpPr>
          <p:nvPr>
            <p:ph type="sldNum" idx="84"/>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C427-07B3-468B-9622-73D4076E93B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40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0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09"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2"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3"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414"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5"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4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418" name="PlaceHolder 3"/>
          <p:cNvSpPr>
            <a:spLocks noGrp="1"/>
          </p:cNvSpPr>
          <p:nvPr>
            <p:ph type="sldNum" idx="85"/>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FE43-D0CD-425A-B1DF-A5D68BD2E1C2}"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419" name="PlaceHolder 4"/>
          <p:cNvSpPr>
            <a:spLocks noGrp="1"/>
          </p:cNvSpPr>
          <p:nvPr>
            <p:ph type="dt" idx="8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420" name="PlaceHolder 5"/>
          <p:cNvSpPr>
            <a:spLocks noGrp="1"/>
          </p:cNvSpPr>
          <p:nvPr>
            <p:ph type="ftr" idx="8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5" name="PlaceHolder 1"/>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06" name="PlaceHolder 2"/>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1" name="PlaceHolder 3"/>
          <p:cNvSpPr>
            <a:spLocks noGrp="1"/>
          </p:cNvSpPr>
          <p:nvPr>
            <p:ph type="sldNum" idx="9"/>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F2CC-44C0-49E6-9626-429FE870C249}"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45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459" name="Group 1"/>
          <p:cNvGrpSpPr/>
          <p:nvPr/>
        </p:nvGrpSpPr>
        <p:grpSpPr>
          <a:xfrm>
            <a:off x="-19080" y="203040"/>
            <a:ext cx="9181080" cy="648000"/>
            <a:chOff x="-19080" y="203040"/>
            <a:chExt cx="9181080" cy="648000"/>
          </a:xfrm>
        </p:grpSpPr>
        <p:grpSp>
          <p:nvGrpSpPr>
            <p:cNvPr id="1460" name="Freeform 11"/>
            <p:cNvGrpSpPr/>
            <p:nvPr/>
          </p:nvGrpSpPr>
          <p:grpSpPr>
            <a:xfrm>
              <a:off x="-19080" y="203040"/>
              <a:ext cx="9162720" cy="648000"/>
              <a:chOff x="-19080" y="203040"/>
              <a:chExt cx="9162720" cy="648000"/>
            </a:xfrm>
          </p:grpSpPr>
          <p:pic>
            <p:nvPicPr>
              <p:cNvPr id="1461" name="Freeform 11" descr=""/>
              <p:cNvPicPr/>
              <p:nvPr/>
            </p:nvPicPr>
            <p:blipFill>
              <a:blip r:embed="rId3"/>
              <a:stretch/>
            </p:blipFill>
            <p:spPr>
              <a:xfrm>
                <a:off x="3960" y="203040"/>
                <a:ext cx="9139680" cy="648000"/>
              </a:xfrm>
              <a:prstGeom prst="rect">
                <a:avLst/>
              </a:prstGeom>
              <a:ln w="0">
                <a:noFill/>
              </a:ln>
            </p:spPr>
          </p:pic>
          <p:sp>
            <p:nvSpPr>
              <p:cNvPr id="146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463" name="Freeform 12"/>
            <p:cNvGrpSpPr/>
            <p:nvPr/>
          </p:nvGrpSpPr>
          <p:grpSpPr>
            <a:xfrm>
              <a:off x="-19080" y="248040"/>
              <a:ext cx="9181080" cy="565200"/>
              <a:chOff x="-19080" y="248040"/>
              <a:chExt cx="9181080" cy="565200"/>
            </a:xfrm>
          </p:grpSpPr>
          <p:pic>
            <p:nvPicPr>
              <p:cNvPr id="1464" name="Freeform 12" descr=""/>
              <p:cNvPicPr/>
              <p:nvPr/>
            </p:nvPicPr>
            <p:blipFill>
              <a:blip r:embed="rId4"/>
              <a:stretch/>
            </p:blipFill>
            <p:spPr>
              <a:xfrm>
                <a:off x="-3240" y="248040"/>
                <a:ext cx="9165240" cy="565200"/>
              </a:xfrm>
              <a:prstGeom prst="rect">
                <a:avLst/>
              </a:prstGeom>
              <a:ln w="0">
                <a:noFill/>
              </a:ln>
            </p:spPr>
          </p:pic>
          <p:sp>
            <p:nvSpPr>
              <p:cNvPr id="146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68"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69"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70"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1AAB-6A65-4FBB-9194-89BECB479331}"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7"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08"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509" name="Group 1"/>
          <p:cNvGrpSpPr/>
          <p:nvPr/>
        </p:nvGrpSpPr>
        <p:grpSpPr>
          <a:xfrm>
            <a:off x="-19080" y="203040"/>
            <a:ext cx="9181080" cy="648000"/>
            <a:chOff x="-19080" y="203040"/>
            <a:chExt cx="9181080" cy="648000"/>
          </a:xfrm>
        </p:grpSpPr>
        <p:grpSp>
          <p:nvGrpSpPr>
            <p:cNvPr id="1510" name="Freeform 11"/>
            <p:cNvGrpSpPr/>
            <p:nvPr/>
          </p:nvGrpSpPr>
          <p:grpSpPr>
            <a:xfrm>
              <a:off x="-19080" y="203040"/>
              <a:ext cx="9162720" cy="648000"/>
              <a:chOff x="-19080" y="203040"/>
              <a:chExt cx="9162720" cy="648000"/>
            </a:xfrm>
          </p:grpSpPr>
          <p:pic>
            <p:nvPicPr>
              <p:cNvPr id="1511" name="Freeform 11" descr=""/>
              <p:cNvPicPr/>
              <p:nvPr/>
            </p:nvPicPr>
            <p:blipFill>
              <a:blip r:embed="rId3"/>
              <a:stretch/>
            </p:blipFill>
            <p:spPr>
              <a:xfrm>
                <a:off x="3960" y="203040"/>
                <a:ext cx="9139680" cy="648000"/>
              </a:xfrm>
              <a:prstGeom prst="rect">
                <a:avLst/>
              </a:prstGeom>
              <a:ln w="0">
                <a:noFill/>
              </a:ln>
            </p:spPr>
          </p:pic>
          <p:sp>
            <p:nvSpPr>
              <p:cNvPr id="1512"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513" name="Freeform 12"/>
            <p:cNvGrpSpPr/>
            <p:nvPr/>
          </p:nvGrpSpPr>
          <p:grpSpPr>
            <a:xfrm>
              <a:off x="-19080" y="248040"/>
              <a:ext cx="9181080" cy="565200"/>
              <a:chOff x="-19080" y="248040"/>
              <a:chExt cx="9181080" cy="565200"/>
            </a:xfrm>
          </p:grpSpPr>
          <p:pic>
            <p:nvPicPr>
              <p:cNvPr id="1514" name="Freeform 12" descr=""/>
              <p:cNvPicPr/>
              <p:nvPr/>
            </p:nvPicPr>
            <p:blipFill>
              <a:blip r:embed="rId4"/>
              <a:stretch/>
            </p:blipFill>
            <p:spPr>
              <a:xfrm>
                <a:off x="-3240" y="248040"/>
                <a:ext cx="9165240" cy="565200"/>
              </a:xfrm>
              <a:prstGeom prst="rect">
                <a:avLst/>
              </a:prstGeom>
              <a:ln w="0">
                <a:noFill/>
              </a:ln>
            </p:spPr>
          </p:pic>
          <p:sp>
            <p:nvSpPr>
              <p:cNvPr id="1515"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18"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19"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0"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3A5E-5D52-40CB-BD83-628C81B8EAA3}"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7"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8"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9"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60"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3"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64"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5" name="PlaceHolder 5"/>
          <p:cNvSpPr>
            <a:spLocks noGrp="1"/>
          </p:cNvSpPr>
          <p:nvPr>
            <p:ph type="sldNum" idx="9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735B-DFA5-45AC-8C53-F9DB4D5E76D3}"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F5FB-83A0-45F8-B7E6-60C6345ABA1F}"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57" name="Group 1"/>
          <p:cNvGrpSpPr/>
          <p:nvPr/>
        </p:nvGrpSpPr>
        <p:grpSpPr>
          <a:xfrm>
            <a:off x="-19080" y="203040"/>
            <a:ext cx="9181080" cy="648000"/>
            <a:chOff x="-19080" y="203040"/>
            <a:chExt cx="9181080" cy="648000"/>
          </a:xfrm>
        </p:grpSpPr>
        <p:grpSp>
          <p:nvGrpSpPr>
            <p:cNvPr id="158" name="Freeform 11"/>
            <p:cNvGrpSpPr/>
            <p:nvPr/>
          </p:nvGrpSpPr>
          <p:grpSpPr>
            <a:xfrm>
              <a:off x="-19080" y="203040"/>
              <a:ext cx="9162720" cy="648000"/>
              <a:chOff x="-19080" y="203040"/>
              <a:chExt cx="9162720" cy="648000"/>
            </a:xfrm>
          </p:grpSpPr>
          <p:pic>
            <p:nvPicPr>
              <p:cNvPr id="159" name="Freeform 11"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61" name="Freeform 12"/>
            <p:cNvGrpSpPr/>
            <p:nvPr/>
          </p:nvGrpSpPr>
          <p:grpSpPr>
            <a:xfrm>
              <a:off x="-19080" y="248040"/>
              <a:ext cx="9181080" cy="565200"/>
              <a:chOff x="-19080" y="248040"/>
              <a:chExt cx="9181080" cy="565200"/>
            </a:xfrm>
          </p:grpSpPr>
          <p:pic>
            <p:nvPicPr>
              <p:cNvPr id="162" name="Freeform 12" descr=""/>
              <p:cNvPicPr/>
              <p:nvPr/>
            </p:nvPicPr>
            <p:blipFill>
              <a:blip r:embed="rId4"/>
              <a:stretch/>
            </p:blipFill>
            <p:spPr>
              <a:xfrm>
                <a:off x="-3240" y="248040"/>
                <a:ext cx="9165240" cy="565200"/>
              </a:xfrm>
              <a:prstGeom prst="rect">
                <a:avLst/>
              </a:prstGeom>
              <a:ln w="0">
                <a:noFill/>
              </a:ln>
            </p:spPr>
          </p:pic>
          <p:sp>
            <p:nvSpPr>
              <p:cNvPr id="16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62720" cy="648000"/>
              <a:chOff x="-19080" y="203040"/>
              <a:chExt cx="9162720" cy="648000"/>
            </a:xfrm>
          </p:grpSpPr>
          <p:pic>
            <p:nvPicPr>
              <p:cNvPr id="204" name="Freeform 11" descr=""/>
              <p:cNvPicPr/>
              <p:nvPr/>
            </p:nvPicPr>
            <p:blipFill>
              <a:blip r:embed="rId3"/>
              <a:stretch/>
            </p:blipFill>
            <p:spPr>
              <a:xfrm>
                <a:off x="3960" y="203040"/>
                <a:ext cx="9139680" cy="648000"/>
              </a:xfrm>
              <a:prstGeom prst="rect">
                <a:avLst/>
              </a:prstGeom>
              <a:ln w="0">
                <a:noFill/>
              </a:ln>
            </p:spPr>
          </p:pic>
          <p:sp>
            <p:nvSpPr>
              <p:cNvPr id="2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206" name="Freeform 12"/>
            <p:cNvGrpSpPr/>
            <p:nvPr/>
          </p:nvGrpSpPr>
          <p:grpSpPr>
            <a:xfrm>
              <a:off x="-19080" y="248040"/>
              <a:ext cx="9181080" cy="565200"/>
              <a:chOff x="-19080" y="248040"/>
              <a:chExt cx="9181080" cy="565200"/>
            </a:xfrm>
          </p:grpSpPr>
          <p:pic>
            <p:nvPicPr>
              <p:cNvPr id="207" name="Freeform 12" descr=""/>
              <p:cNvPicPr/>
              <p:nvPr/>
            </p:nvPicPr>
            <p:blipFill>
              <a:blip r:embed="rId4"/>
              <a:stretch/>
            </p:blipFill>
            <p:spPr>
              <a:xfrm>
                <a:off x="-3240" y="248040"/>
                <a:ext cx="9165240" cy="565200"/>
              </a:xfrm>
              <a:prstGeom prst="rect">
                <a:avLst/>
              </a:prstGeom>
              <a:ln w="0">
                <a:noFill/>
              </a:ln>
            </p:spPr>
          </p:pic>
          <p:sp>
            <p:nvSpPr>
              <p:cNvPr id="2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5CC0-96D3-4B8C-A172-8AE4555AD6E0}"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62720" cy="648000"/>
              <a:chOff x="-19080" y="203040"/>
              <a:chExt cx="9162720" cy="648000"/>
            </a:xfrm>
          </p:grpSpPr>
          <p:pic>
            <p:nvPicPr>
              <p:cNvPr id="254" name="Freeform 11" descr=""/>
              <p:cNvPicPr/>
              <p:nvPr/>
            </p:nvPicPr>
            <p:blipFill>
              <a:blip r:embed="rId3"/>
              <a:stretch/>
            </p:blipFill>
            <p:spPr>
              <a:xfrm>
                <a:off x="3960" y="203040"/>
                <a:ext cx="9139680" cy="648000"/>
              </a:xfrm>
              <a:prstGeom prst="rect">
                <a:avLst/>
              </a:prstGeom>
              <a:ln w="0">
                <a:noFill/>
              </a:ln>
            </p:spPr>
          </p:pic>
          <p:sp>
            <p:nvSpPr>
              <p:cNvPr id="2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256" name="Freeform 12"/>
            <p:cNvGrpSpPr/>
            <p:nvPr/>
          </p:nvGrpSpPr>
          <p:grpSpPr>
            <a:xfrm>
              <a:off x="-19080" y="248040"/>
              <a:ext cx="9181080" cy="565200"/>
              <a:chOff x="-19080" y="248040"/>
              <a:chExt cx="9181080" cy="565200"/>
            </a:xfrm>
          </p:grpSpPr>
          <p:pic>
            <p:nvPicPr>
              <p:cNvPr id="257" name="Freeform 12" descr=""/>
              <p:cNvPicPr/>
              <p:nvPr/>
            </p:nvPicPr>
            <p:blipFill>
              <a:blip r:embed="rId4"/>
              <a:stretch/>
            </p:blipFill>
            <p:spPr>
              <a:xfrm>
                <a:off x="-3240" y="248040"/>
                <a:ext cx="9165240" cy="565200"/>
              </a:xfrm>
              <a:prstGeom prst="rect">
                <a:avLst/>
              </a:prstGeom>
              <a:ln w="0">
                <a:noFill/>
              </a:ln>
            </p:spPr>
          </p:pic>
          <p:sp>
            <p:nvSpPr>
              <p:cNvPr id="2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D573-08EA-4B10-A2E4-D166DB5C419C}"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8"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A5CC-055A-444A-87CA-E5FE62D0D6AB}"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4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6"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8"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9"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0"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351"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2"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3"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5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56"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57"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8" name="PlaceHolder 5"/>
          <p:cNvSpPr>
            <a:spLocks noGrp="1"/>
          </p:cNvSpPr>
          <p:nvPr>
            <p:ph type="sldNum" idx="24"/>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4280-9A6D-4817-B24B-61BD97C7E4D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40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6"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8" name="PlaceHolder 5"/>
          <p:cNvSpPr>
            <a:spLocks noGrp="1"/>
          </p:cNvSpPr>
          <p:nvPr>
            <p:ph type="sldNum" idx="27"/>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1C52-2B5F-48EB-A1E9-59A0CCD56CC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gif"/><Relationship Id="rId5" Type="http://schemas.openxmlformats.org/officeDocument/2006/relationships/slideLayout" Target="../slideLayouts/slideLayout229.xml"/>
</Relationships>
</file>

<file path=ppt/slides/_rels/slide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Title 1" descr=""/>
          <p:cNvPicPr/>
          <p:nvPr/>
        </p:nvPicPr>
        <p:blipFill>
          <a:blip r:embed="rId1"/>
          <a:stretch/>
        </p:blipFill>
        <p:spPr>
          <a:xfrm>
            <a:off x="341280" y="1352520"/>
            <a:ext cx="799776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37" name=""/>
          <p:cNvSpPr txBox="1"/>
          <p:nvPr/>
        </p:nvSpPr>
        <p:spPr>
          <a:xfrm>
            <a:off x="714240" y="1857240"/>
            <a:ext cx="8229600" cy="409752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00000"/>
                </a:solidFill>
                <a:latin typeface="Constantia"/>
              </a:rPr>
              <a:t>Mate then die</a:t>
            </a:r>
            <a:endParaRPr b="0" lang="en-US" sz="32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short-finned eel – mates once then di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Chinook salmon – female lays eggs for the male to fertilise, covers the eggs, then lays more eggs in another location.  The adults die after breeding.  The young make their way out to sea, eventually return to the same spawning grounds to breed and die.</a:t>
            </a:r>
            <a:endParaRPr b="0" lang="en-US" sz="2400" spc="-1" strike="noStrike">
              <a:solidFill>
                <a:srgbClr val="000000"/>
              </a:solidFill>
              <a:latin typeface="Constantia"/>
            </a:endParaRPr>
          </a:p>
        </p:txBody>
      </p:sp>
      <p:pic>
        <p:nvPicPr>
          <p:cNvPr id="1638" name="Picture 3" descr="52I1CAGKXG0ECA0E01Z4CAH21Z1XCA6RTIAVCA5H76QCCA6VSDF2CAYG2OKJCAKXHHGTCAWI3OFLCA93PTXXCAHMX7CDCAC3K0PJCAEM4SHFCAJHQ3GWCA2LWIT5CAK09LNVCAP822K9CA0OS9RICAEKA2NW.jpg"/>
          <p:cNvPicPr/>
          <p:nvPr/>
        </p:nvPicPr>
        <p:blipFill>
          <a:blip r:embed="rId1"/>
          <a:stretch/>
        </p:blipFill>
        <p:spPr>
          <a:xfrm>
            <a:off x="3143160" y="5500800"/>
            <a:ext cx="1546200" cy="981000"/>
          </a:xfrm>
          <a:prstGeom prst="rect">
            <a:avLst/>
          </a:prstGeom>
          <a:ln w="0">
            <a:noFill/>
          </a:ln>
        </p:spPr>
      </p:pic>
      <p:pic>
        <p:nvPicPr>
          <p:cNvPr id="1639" name="Picture 4" descr="HK8BCA1ERO7YCAMRDQCSCADH6WCUCA1BMV51CA5PJN3ACABROGV2CAJJ26C5CASYB9LLCA7KZSIQCAHYD98BCADH7R50CA4754H9CA0F93I2CAXRG43YCAZTL7FICAOC2FGYCAO5USTGCA1CZ3O3CA7FSODH.jpg"/>
          <p:cNvPicPr/>
          <p:nvPr/>
        </p:nvPicPr>
        <p:blipFill>
          <a:blip r:embed="rId2"/>
          <a:stretch/>
        </p:blipFill>
        <p:spPr>
          <a:xfrm>
            <a:off x="5000760" y="5072040"/>
            <a:ext cx="1834920" cy="1552680"/>
          </a:xfrm>
          <a:prstGeom prst="rect">
            <a:avLst/>
          </a:prstGeom>
          <a:ln w="0">
            <a:noFill/>
          </a:ln>
        </p:spPr>
      </p:pic>
      <p:pic>
        <p:nvPicPr>
          <p:cNvPr id="1640" name="Picture 5" descr="CZFRCAHXI2RICAW26694CAQHZY3JCA27DO0SCAS8UXZLCACZ1JXECAYYZA5MCAYLRW6VCADTSYO3CADJBX4GCA3ZSB9TCAVFL0MFCAUVA96LCA2YE035CAUTD1BBCAO80GX0CAS3ZXQRCAVRCVYFCA136A6X.jpg"/>
          <p:cNvPicPr/>
          <p:nvPr/>
        </p:nvPicPr>
        <p:blipFill>
          <a:blip r:embed="rId3"/>
          <a:stretch/>
        </p:blipFill>
        <p:spPr>
          <a:xfrm>
            <a:off x="714240" y="5367240"/>
            <a:ext cx="1857600" cy="1109880"/>
          </a:xfrm>
          <a:prstGeom prst="rect">
            <a:avLst/>
          </a:prstGeom>
          <a:ln w="0">
            <a:noFill/>
          </a:ln>
        </p:spPr>
      </p:pic>
      <p:pic>
        <p:nvPicPr>
          <p:cNvPr id="1641" name="Picture 6" descr="QK2ICA6ZZIHSCAES3P9HCADB7K2ACAOGUHAQCACRGIWLCAILEJF7CAF3TNQFCAX1N2DZCALK373JCATG0N8UCA0BGGGYCACZAM40CARVT1XZCAO3WH9LCAOSPMUFCAPG0379CA9NB1CXCA576M8KCA8R19E4.jpg"/>
          <p:cNvPicPr/>
          <p:nvPr/>
        </p:nvPicPr>
        <p:blipFill>
          <a:blip r:embed="rId4"/>
          <a:stretch/>
        </p:blipFill>
        <p:spPr>
          <a:xfrm>
            <a:off x="7143840" y="5143680"/>
            <a:ext cx="1925640" cy="13856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637">
                                            <p:txEl>
                                              <p:pRg st="0" end="0"/>
                                            </p:txEl>
                                          </p:spTgt>
                                        </p:tgtEl>
                                        <p:attrNameLst>
                                          <p:attrName>style.visibility</p:attrName>
                                        </p:attrNameLst>
                                      </p:cBhvr>
                                      <p:to>
                                        <p:strVal val="visible"/>
                                      </p:to>
                                    </p:set>
                                    <p:animEffect filter="box(in)" transition="in">
                                      <p:cBhvr additive="repl">
                                        <p:cTn id="104" dur="500"/>
                                        <p:tgtEl>
                                          <p:spTgt spid="1637">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637">
                                            <p:txEl>
                                              <p:pRg st="1" end="1"/>
                                            </p:txEl>
                                          </p:spTgt>
                                        </p:tgtEl>
                                        <p:attrNameLst>
                                          <p:attrName>style.visibility</p:attrName>
                                        </p:attrNameLst>
                                      </p:cBhvr>
                                      <p:to>
                                        <p:strVal val="visible"/>
                                      </p:to>
                                    </p:set>
                                    <p:animEffect filter="box(in)" transition="in">
                                      <p:cBhvr additive="repl">
                                        <p:cTn id="109" dur="500"/>
                                        <p:tgtEl>
                                          <p:spTgt spid="163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637">
                                            <p:txEl>
                                              <p:pRg st="2" end="2"/>
                                            </p:txEl>
                                          </p:spTgt>
                                        </p:tgtEl>
                                        <p:attrNameLst>
                                          <p:attrName>style.visibility</p:attrName>
                                        </p:attrNameLst>
                                      </p:cBhvr>
                                      <p:to>
                                        <p:strVal val="visible"/>
                                      </p:to>
                                    </p:set>
                                    <p:animEffect filter="box(in)" transition="in">
                                      <p:cBhvr additive="repl">
                                        <p:cTn id="114" dur="500"/>
                                        <p:tgtEl>
                                          <p:spTgt spid="16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b9899"/>
                </a:solidFill>
                <a:latin typeface="Georgia"/>
              </a:rPr>
              <a:t>How often do matings occur?</a:t>
            </a:r>
            <a:endParaRPr b="0" lang="en-US" sz="4400" spc="-1" strike="noStrike">
              <a:solidFill>
                <a:srgbClr val="7b9899"/>
              </a:solidFill>
              <a:latin typeface="Georgia"/>
            </a:endParaRPr>
          </a:p>
        </p:txBody>
      </p:sp>
      <p:sp>
        <p:nvSpPr>
          <p:cNvPr id="160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Matings often occur just before each fertilisation event because sperm cells typically do not live long after being released by the male – either into the environment (</a:t>
            </a:r>
            <a:r>
              <a:rPr b="0" lang="en-AU" sz="2700" spc="-1" strike="noStrike">
                <a:solidFill>
                  <a:srgbClr val="ff0000"/>
                </a:solidFill>
                <a:latin typeface="Georgia"/>
              </a:rPr>
              <a:t>external fertilisation</a:t>
            </a:r>
            <a:r>
              <a:rPr b="0" lang="en-AU" sz="2700" spc="-1" strike="noStrike">
                <a:solidFill>
                  <a:srgbClr val="000000"/>
                </a:solidFill>
                <a:latin typeface="Georgia"/>
              </a:rPr>
              <a:t>) or into the female’s reproductive tract (</a:t>
            </a:r>
            <a:r>
              <a:rPr b="0" lang="en-AU" sz="2700" spc="-1" strike="noStrike">
                <a:solidFill>
                  <a:srgbClr val="ff0000"/>
                </a:solidFill>
                <a:latin typeface="Georgia"/>
              </a:rPr>
              <a:t>internal fertilisation</a:t>
            </a:r>
            <a:r>
              <a:rPr b="0" lang="en-AU" sz="2700" spc="-1" strike="noStrike">
                <a:solidFill>
                  <a:srgbClr val="000000"/>
                </a:solidFill>
                <a:latin typeface="Georgia"/>
              </a:rPr>
              <a:t>).</a:t>
            </a:r>
            <a:endParaRPr b="0" lang="en-US" sz="2700" spc="-1" strike="noStrike">
              <a:solidFill>
                <a:srgbClr val="000000"/>
              </a:solidFill>
              <a:latin typeface="Georgia"/>
            </a:endParaRPr>
          </a:p>
        </p:txBody>
      </p:sp>
      <p:pic>
        <p:nvPicPr>
          <p:cNvPr id="1605" name="Picture 3" descr="6UCWCA0L0NTSCAADH4RWCAC2LCB3CA54WL68CA7B7G8TCABCQSRLCABCRKR0CAPXYKZWCAETFX8XCACHX2XCCAAPELPECA7Q32S9CAIWP6QECAVZ2JX2CASOAYHXCAO5YTCGCAT6BMP3CAGIUYXQCAAGX6DO.jpg"/>
          <p:cNvPicPr/>
          <p:nvPr/>
        </p:nvPicPr>
        <p:blipFill>
          <a:blip r:embed="rId1"/>
          <a:stretch/>
        </p:blipFill>
        <p:spPr>
          <a:xfrm>
            <a:off x="1000080" y="3998880"/>
            <a:ext cx="1643040" cy="2201760"/>
          </a:xfrm>
          <a:prstGeom prst="rect">
            <a:avLst/>
          </a:prstGeom>
          <a:ln w="0">
            <a:noFill/>
          </a:ln>
        </p:spPr>
      </p:pic>
      <p:pic>
        <p:nvPicPr>
          <p:cNvPr id="1606" name="Picture 4" descr="8ECUCALRWP4YCAC9WZVHCA1GD1QSCAJUBA2JCAJPXT26CAA7IFRVCAEA2U43CA7VT6NFCAB2QV5MCAPAJOT3CAHTQ0BDCADF3746CA9OV5WMCAL81WJ0CAYODRX1CA8FBLN8CAK14UBGCAQ9S1DFCA35P5PK.jpg"/>
          <p:cNvPicPr/>
          <p:nvPr/>
        </p:nvPicPr>
        <p:blipFill>
          <a:blip r:embed="rId2"/>
          <a:stretch/>
        </p:blipFill>
        <p:spPr>
          <a:xfrm>
            <a:off x="3000240" y="4071960"/>
            <a:ext cx="2916360" cy="2052720"/>
          </a:xfrm>
          <a:prstGeom prst="rect">
            <a:avLst/>
          </a:prstGeom>
          <a:ln w="0">
            <a:noFill/>
          </a:ln>
        </p:spPr>
      </p:pic>
      <p:pic>
        <p:nvPicPr>
          <p:cNvPr id="1607" name="Picture 5" descr="RWSDCA1AA61MCAPX3MF8CAZB40W9CARMDNMLCAKRHJL5CAS5DXK1CA3W5GYKCAMWW785CAE5LGUKCA6GJ76NCARUQR52CA0OME05CAYZD4IICAGC52EKCAIO7S0OCA8UKFESCAHIG11MCACTJMJHCACJQG2W.jpg"/>
          <p:cNvPicPr/>
          <p:nvPr/>
        </p:nvPicPr>
        <p:blipFill>
          <a:blip r:embed="rId3"/>
          <a:stretch/>
        </p:blipFill>
        <p:spPr>
          <a:xfrm>
            <a:off x="6215040" y="4079880"/>
            <a:ext cx="200016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9ca3"/>
                </a:solidFill>
                <a:latin typeface="Constantia"/>
              </a:rPr>
              <a:t>Breeding season </a:t>
            </a:r>
            <a:r>
              <a:rPr b="0" lang="en-AU" sz="2600" spc="-1" strike="noStrike">
                <a:solidFill>
                  <a:srgbClr val="000000"/>
                </a:solidFill>
                <a:latin typeface="Constantia"/>
              </a:rPr>
              <a:t>– period when mature members of the population have sperm and eggs ready for release and fertil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9ca3"/>
                </a:solidFill>
                <a:latin typeface="Constantia"/>
              </a:rPr>
              <a:t>Spawning season </a:t>
            </a:r>
            <a:r>
              <a:rPr b="0" lang="en-AU" sz="2600" spc="-1" strike="noStrike">
                <a:solidFill>
                  <a:srgbClr val="000000"/>
                </a:solidFill>
                <a:latin typeface="Constantia"/>
              </a:rPr>
              <a:t>– (external fertilisation) same as breeding season but for aquatic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9ca3"/>
                </a:solidFill>
                <a:latin typeface="Constantia"/>
              </a:rPr>
              <a:t>Mating season </a:t>
            </a:r>
            <a:r>
              <a:rPr b="0" lang="en-AU" sz="2600" spc="-1" strike="noStrike">
                <a:solidFill>
                  <a:srgbClr val="000000"/>
                </a:solidFill>
                <a:latin typeface="Constantia"/>
              </a:rPr>
              <a:t>– for animals with internal fertilis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610" name="Picture 3" descr="baby001.gif"/>
          <p:cNvPicPr/>
          <p:nvPr/>
        </p:nvPicPr>
        <p:blipFill>
          <a:blip r:embed="rId1"/>
          <a:stretch/>
        </p:blipFill>
        <p:spPr>
          <a:xfrm>
            <a:off x="3286080" y="4646520"/>
            <a:ext cx="2286000" cy="183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09">
                                            <p:txEl>
                                              <p:pRg st="0" end="0"/>
                                            </p:txEl>
                                          </p:spTgt>
                                        </p:tgtEl>
                                        <p:attrNameLst>
                                          <p:attrName>style.visibility</p:attrName>
                                        </p:attrNameLst>
                                      </p:cBhvr>
                                      <p:to>
                                        <p:strVal val="visible"/>
                                      </p:to>
                                    </p:set>
                                    <p:animEffect filter="box(in)" transition="in">
                                      <p:cBhvr additive="repl">
                                        <p:cTn id="7" dur="500"/>
                                        <p:tgtEl>
                                          <p:spTgt spid="16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09">
                                            <p:txEl>
                                              <p:pRg st="1" end="1"/>
                                            </p:txEl>
                                          </p:spTgt>
                                        </p:tgtEl>
                                        <p:attrNameLst>
                                          <p:attrName>style.visibility</p:attrName>
                                        </p:attrNameLst>
                                      </p:cBhvr>
                                      <p:to>
                                        <p:strVal val="visible"/>
                                      </p:to>
                                    </p:set>
                                    <p:animEffect filter="box(in)" transition="in">
                                      <p:cBhvr additive="repl">
                                        <p:cTn id="12" dur="500"/>
                                        <p:tgtEl>
                                          <p:spTgt spid="160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609">
                                            <p:txEl>
                                              <p:pRg st="2" end="2"/>
                                            </p:txEl>
                                          </p:spTgt>
                                        </p:tgtEl>
                                        <p:attrNameLst>
                                          <p:attrName>style.visibility</p:attrName>
                                        </p:attrNameLst>
                                      </p:cBhvr>
                                      <p:to>
                                        <p:strVal val="visible"/>
                                      </p:to>
                                    </p:set>
                                    <p:animEffect filter="box(in)" transition="in">
                                      <p:cBhvr additive="repl">
                                        <p:cTn id="17" dur="500"/>
                                        <p:tgtEl>
                                          <p:spTgt spid="16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b9899"/>
                </a:solidFill>
                <a:latin typeface="Georgia"/>
              </a:rPr>
              <a:t>How often do matings occur?</a:t>
            </a:r>
            <a:endParaRPr b="0" lang="en-US" sz="4000" spc="-1" strike="noStrike">
              <a:solidFill>
                <a:srgbClr val="7b9899"/>
              </a:solidFill>
              <a:latin typeface="Georgia"/>
            </a:endParaRPr>
          </a:p>
        </p:txBody>
      </p:sp>
      <p:sp>
        <p:nvSpPr>
          <p:cNvPr id="161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In some animals sperm from one mating remains viable for a long period and can be stored by the fema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Georgia"/>
              </a:rPr>
              <a:t>Eg. honeybees</a:t>
            </a:r>
            <a:endParaRPr b="0" lang="en-US" sz="2700" spc="-1" strike="noStrike">
              <a:solidFill>
                <a:srgbClr val="000000"/>
              </a:solidFill>
              <a:latin typeface="Georgia"/>
            </a:endParaRPr>
          </a:p>
        </p:txBody>
      </p:sp>
      <p:pic>
        <p:nvPicPr>
          <p:cNvPr id="1613" name="Picture 3" descr="KQ3TCA8SJUU0CA0V131WCA367JZYCAH70WRVCAKKL64DCA6LUC82CAS3E6I8CA10PA7XCAH9SX2UCAYUE8WACA6DX0Y9CAO08ED4CAVXLQQRCAXLEUGQCAS9BCHWCAUX9RWVCAYE85JFCALQQP5PCA11OMP2.jpg"/>
          <p:cNvPicPr/>
          <p:nvPr/>
        </p:nvPicPr>
        <p:blipFill>
          <a:blip r:embed="rId1"/>
          <a:stretch/>
        </p:blipFill>
        <p:spPr>
          <a:xfrm>
            <a:off x="1071720" y="4035600"/>
            <a:ext cx="2286000" cy="1746000"/>
          </a:xfrm>
          <a:prstGeom prst="rect">
            <a:avLst/>
          </a:prstGeom>
          <a:ln w="0">
            <a:noFill/>
          </a:ln>
        </p:spPr>
      </p:pic>
      <p:pic>
        <p:nvPicPr>
          <p:cNvPr id="1614" name="Picture 4" descr="YY20CAD6S61DCA4XV3K1CAKR12E6CAGLSEMYCARQKGR5CAG0QM9HCAEKVKMNCAX1AXO1CA3PV08OCA817JJ3CAEA7H7ICAVQ2D3DCAK7VRWGCAS78CPVCAEJ84G9CAWKVD4SCA956WOKCADKFOJLCAQM8XSI.jpg"/>
          <p:cNvPicPr/>
          <p:nvPr/>
        </p:nvPicPr>
        <p:blipFill>
          <a:blip r:embed="rId2"/>
          <a:stretch/>
        </p:blipFill>
        <p:spPr>
          <a:xfrm>
            <a:off x="3571920" y="2571840"/>
            <a:ext cx="2871720" cy="1861920"/>
          </a:xfrm>
          <a:prstGeom prst="rect">
            <a:avLst/>
          </a:prstGeom>
          <a:ln w="0">
            <a:noFill/>
          </a:ln>
        </p:spPr>
      </p:pic>
      <p:pic>
        <p:nvPicPr>
          <p:cNvPr id="1615" name="Picture 5" descr="Z4AACA5F7HZ9CAD6BPJ7CAC0ZWG6CAPC4L9HCAURX7N0CAOIFDJPCAINCYIFCA8ACN2GCAO05ODDCAF9BO5WCAD9OKGACAWD3ULGCAA8SOW4CA2JN1A4CAU1UK2VCA7OONBUCASO34BNCACJS2M2CAZJF8ZT.jpg"/>
          <p:cNvPicPr/>
          <p:nvPr/>
        </p:nvPicPr>
        <p:blipFill>
          <a:blip r:embed="rId3"/>
          <a:stretch/>
        </p:blipFill>
        <p:spPr>
          <a:xfrm>
            <a:off x="6205680" y="3786120"/>
            <a:ext cx="2850840" cy="1871640"/>
          </a:xfrm>
          <a:prstGeom prst="rect">
            <a:avLst/>
          </a:prstGeom>
          <a:ln w="0">
            <a:noFill/>
          </a:ln>
        </p:spPr>
      </p:pic>
      <p:pic>
        <p:nvPicPr>
          <p:cNvPr id="1616" name="Picture 6" descr="buzzy_mad_md_clr.gif"/>
          <p:cNvPicPr/>
          <p:nvPr/>
        </p:nvPicPr>
        <p:blipFill>
          <a:blip r:embed="rId4"/>
          <a:stretch/>
        </p:blipFill>
        <p:spPr>
          <a:xfrm>
            <a:off x="4071960" y="50720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612">
                                            <p:txEl>
                                              <p:pRg st="0" end="0"/>
                                            </p:txEl>
                                          </p:spTgt>
                                        </p:tgtEl>
                                        <p:attrNameLst>
                                          <p:attrName>style.visibility</p:attrName>
                                        </p:attrNameLst>
                                      </p:cBhvr>
                                      <p:to>
                                        <p:strVal val="visible"/>
                                      </p:to>
                                    </p:set>
                                    <p:animEffect filter="box(in)" transition="in">
                                      <p:cBhvr additive="repl">
                                        <p:cTn id="24" dur="500"/>
                                        <p:tgtEl>
                                          <p:spTgt spid="161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612">
                                            <p:txEl>
                                              <p:pRg st="2" end="2"/>
                                            </p:txEl>
                                          </p:spTgt>
                                        </p:tgtEl>
                                        <p:attrNameLst>
                                          <p:attrName>style.visibility</p:attrName>
                                        </p:attrNameLst>
                                      </p:cBhvr>
                                      <p:to>
                                        <p:strVal val="visible"/>
                                      </p:to>
                                    </p:set>
                                    <p:animEffect filter="box(in)" transition="in">
                                      <p:cBhvr additive="repl">
                                        <p:cTn id="29" dur="500"/>
                                        <p:tgtEl>
                                          <p:spTgt spid="1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2060"/>
                </a:solidFill>
                <a:latin typeface="Constantia"/>
              </a:rPr>
              <a:t>Sexual reproduction</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gs and sperm must be available at the same time in members of the population</a:t>
            </a:r>
            <a:endParaRPr b="0" lang="en-US" sz="2400" spc="-1" strike="noStrike">
              <a:solidFill>
                <a:srgbClr val="000000"/>
              </a:solidFill>
              <a:latin typeface="Constantia"/>
            </a:endParaRPr>
          </a:p>
        </p:txBody>
      </p:sp>
      <p:pic>
        <p:nvPicPr>
          <p:cNvPr id="1619" name="Picture 3" descr="anim005.gif"/>
          <p:cNvPicPr/>
          <p:nvPr/>
        </p:nvPicPr>
        <p:blipFill>
          <a:blip r:embed="rId1"/>
          <a:stretch/>
        </p:blipFill>
        <p:spPr>
          <a:xfrm>
            <a:off x="2357280" y="3157560"/>
            <a:ext cx="3214800" cy="3700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618">
                                            <p:txEl>
                                              <p:pRg st="0" end="0"/>
                                            </p:txEl>
                                          </p:spTgt>
                                        </p:tgtEl>
                                        <p:attrNameLst>
                                          <p:attrName>style.visibility</p:attrName>
                                        </p:attrNameLst>
                                      </p:cBhvr>
                                      <p:to>
                                        <p:strVal val="visible"/>
                                      </p:to>
                                    </p:set>
                                    <p:animEffect filter="box(in)" transition="in">
                                      <p:cBhvr additive="repl">
                                        <p:cTn id="36" dur="500"/>
                                        <p:tgtEl>
                                          <p:spTgt spid="1618">
                                            <p:txEl>
                                              <p:pRg st="0" end="0"/>
                                            </p:txEl>
                                          </p:spTgt>
                                        </p:tgtEl>
                                      </p:cBhvr>
                                    </p:animEffect>
                                  </p:childTnLst>
                                </p:cTn>
                              </p:par>
                              <p:par>
                                <p:cTn id="37" nodeType="withEffect" fill="hold" presetClass="entr" presetID="4" presetSubtype="16">
                                  <p:stCondLst>
                                    <p:cond delay="0"/>
                                  </p:stCondLst>
                                  <p:childTnLst>
                                    <p:set>
                                      <p:cBhvr>
                                        <p:cTn id="38" dur="1" fill="hold">
                                          <p:stCondLst>
                                            <p:cond delay="0"/>
                                          </p:stCondLst>
                                        </p:cTn>
                                        <p:tgtEl>
                                          <p:spTgt spid="1618">
                                            <p:txEl>
                                              <p:pRg st="1" end="1"/>
                                            </p:txEl>
                                          </p:spTgt>
                                        </p:tgtEl>
                                        <p:attrNameLst>
                                          <p:attrName>style.visibility</p:attrName>
                                        </p:attrNameLst>
                                      </p:cBhvr>
                                      <p:to>
                                        <p:strVal val="visible"/>
                                      </p:to>
                                    </p:set>
                                    <p:animEffect filter="box(in)" transition="in">
                                      <p:cBhvr additive="repl">
                                        <p:cTn id="39" dur="500"/>
                                        <p:tgtEl>
                                          <p:spTgt spid="1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ducing sperm and eggs (gametogenesis) is influenced by internal factors such as hormone levels also by external factors such as temperature and day length</a:t>
            </a:r>
            <a:endParaRPr b="0" lang="en-US" sz="2600" spc="-1" strike="noStrike">
              <a:solidFill>
                <a:srgbClr val="000000"/>
              </a:solidFill>
              <a:latin typeface="Constantia"/>
            </a:endParaRPr>
          </a:p>
        </p:txBody>
      </p:sp>
      <p:pic>
        <p:nvPicPr>
          <p:cNvPr id="1622" name="Picture 4" descr="Cat-05.gif"/>
          <p:cNvPicPr/>
          <p:nvPr/>
        </p:nvPicPr>
        <p:blipFill>
          <a:blip r:embed="rId1"/>
          <a:stretch/>
        </p:blipFill>
        <p:spPr>
          <a:xfrm>
            <a:off x="1857240" y="3578400"/>
            <a:ext cx="3000600" cy="245556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621">
                                            <p:txEl>
                                              <p:pRg st="0" end="0"/>
                                            </p:txEl>
                                          </p:spTgt>
                                        </p:tgtEl>
                                        <p:attrNameLst>
                                          <p:attrName>style.visibility</p:attrName>
                                        </p:attrNameLst>
                                      </p:cBhvr>
                                      <p:to>
                                        <p:strVal val="visible"/>
                                      </p:to>
                                    </p:set>
                                    <p:animEffect filter="box(in)" transition="in">
                                      <p:cBhvr additive="repl">
                                        <p:cTn id="46" dur="500"/>
                                        <p:tgtEl>
                                          <p:spTgt spid="16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ost animal populations have distinct and regular breeding season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Single annual breeding seas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Biennial pattern of breeding (2 years required for individuals to mature and to spawn)</a:t>
            </a:r>
            <a:endParaRPr b="0" lang="en-US" sz="2400" spc="-1" strike="noStrike">
              <a:solidFill>
                <a:srgbClr val="000000"/>
              </a:solidFill>
              <a:latin typeface="Constantia"/>
            </a:endParaRPr>
          </a:p>
        </p:txBody>
      </p:sp>
      <p:pic>
        <p:nvPicPr>
          <p:cNvPr id="1625" name="Picture 3" descr="Dog-04.gif"/>
          <p:cNvPicPr/>
          <p:nvPr/>
        </p:nvPicPr>
        <p:blipFill>
          <a:blip r:embed="rId1"/>
          <a:stretch/>
        </p:blipFill>
        <p:spPr>
          <a:xfrm>
            <a:off x="2214720" y="4395960"/>
            <a:ext cx="1785960" cy="1785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24">
                                            <p:txEl>
                                              <p:pRg st="0" end="0"/>
                                            </p:txEl>
                                          </p:spTgt>
                                        </p:tgtEl>
                                        <p:attrNameLst>
                                          <p:attrName>style.visibility</p:attrName>
                                        </p:attrNameLst>
                                      </p:cBhvr>
                                      <p:to>
                                        <p:strVal val="visible"/>
                                      </p:to>
                                    </p:set>
                                    <p:animEffect filter="box(in)" transition="in">
                                      <p:cBhvr additive="repl">
                                        <p:cTn id="53" dur="500"/>
                                        <p:tgtEl>
                                          <p:spTgt spid="162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624">
                                            <p:txEl>
                                              <p:pRg st="1" end="1"/>
                                            </p:txEl>
                                          </p:spTgt>
                                        </p:tgtEl>
                                        <p:attrNameLst>
                                          <p:attrName>style.visibility</p:attrName>
                                        </p:attrNameLst>
                                      </p:cBhvr>
                                      <p:to>
                                        <p:strVal val="visible"/>
                                      </p:to>
                                    </p:set>
                                    <p:animEffect filter="box(in)" transition="in">
                                      <p:cBhvr additive="repl">
                                        <p:cTn id="58" dur="500"/>
                                        <p:tgtEl>
                                          <p:spTgt spid="1624">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624">
                                            <p:txEl>
                                              <p:pRg st="2" end="2"/>
                                            </p:txEl>
                                          </p:spTgt>
                                        </p:tgtEl>
                                        <p:attrNameLst>
                                          <p:attrName>style.visibility</p:attrName>
                                        </p:attrNameLst>
                                      </p:cBhvr>
                                      <p:to>
                                        <p:strVal val="visible"/>
                                      </p:to>
                                    </p:set>
                                    <p:animEffect filter="box(in)" transition="in">
                                      <p:cBhvr additive="repl">
                                        <p:cTn id="63" dur="500"/>
                                        <p:tgtEl>
                                          <p:spTgt spid="1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emale mammals produce eggs during a oestrous cycle that varies in length for different speci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wolves, foxes and bears – one oestrous cycle per yea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g deer, sheep and goats – several oestrous cycles in a short period when hormonal changes are triggered by shorter day length</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w would the influence of day length on breeding improve survival for offspring?</a:t>
            </a:r>
            <a:endParaRPr b="0" lang="en-US" sz="2600" spc="-1" strike="noStrike">
              <a:solidFill>
                <a:srgbClr val="000000"/>
              </a:solidFill>
              <a:latin typeface="Constantia"/>
            </a:endParaRPr>
          </a:p>
        </p:txBody>
      </p:sp>
      <p:pic>
        <p:nvPicPr>
          <p:cNvPr id="1628" name="Picture 3" descr="NE4ICAI7GWJECA32N9TUCAYVKQA6CA2XYKJECA3AILRHCALR4XJWCARMT153CAZQXOSPCAYQ2TE9CA54RC0DCA3C6YHMCAF5V795CA8GWIZYCAH8NCFDCAIUQSKDCAXR2BUCCA87HEJHCAVHST5TCA3KL0EW.jpg"/>
          <p:cNvPicPr/>
          <p:nvPr/>
        </p:nvPicPr>
        <p:blipFill>
          <a:blip r:embed="rId1"/>
          <a:stretch/>
        </p:blipFill>
        <p:spPr>
          <a:xfrm>
            <a:off x="357120" y="5643720"/>
            <a:ext cx="1900440" cy="1166760"/>
          </a:xfrm>
          <a:prstGeom prst="rect">
            <a:avLst/>
          </a:prstGeom>
          <a:ln w="0">
            <a:noFill/>
          </a:ln>
        </p:spPr>
      </p:pic>
      <p:pic>
        <p:nvPicPr>
          <p:cNvPr id="1629" name="Picture 4" descr="RL6UCAIWDB4KCANH5J24CA2VKIACCAYUNQUWCA8664HMCAPDELOCCARRY6NNCA5U8B1KCAGSB4ZGCA1X0P2CCAIVVSV9CAOAMRLFCAAG6XJ4CANE7WZICAWBHB7PCABIQTGFCAICAEO4CACB12JKCAYG6EAX.jpg"/>
          <p:cNvPicPr/>
          <p:nvPr/>
        </p:nvPicPr>
        <p:blipFill>
          <a:blip r:embed="rId2"/>
          <a:stretch/>
        </p:blipFill>
        <p:spPr>
          <a:xfrm>
            <a:off x="3429000" y="5357880"/>
            <a:ext cx="1357200" cy="1454040"/>
          </a:xfrm>
          <a:prstGeom prst="rect">
            <a:avLst/>
          </a:prstGeom>
          <a:ln w="0">
            <a:noFill/>
          </a:ln>
        </p:spPr>
      </p:pic>
      <p:pic>
        <p:nvPicPr>
          <p:cNvPr id="1630" name="Picture 5" descr="XCEOCAB086BOCADMDI16CA6YZMXSCA8YE9O7CAI8EZL0CA99L7MCCARDHUJVCAB9X431CAUF9W0WCA677BRLCAQATKYTCA2AH51BCA474GU2CAZKVODDCA2ENIJHCAO9W4WGCA8QPDB0CAEPCGNCCAP3RAXY.jpg"/>
          <p:cNvPicPr/>
          <p:nvPr/>
        </p:nvPicPr>
        <p:blipFill>
          <a:blip r:embed="rId3"/>
          <a:stretch/>
        </p:blipFill>
        <p:spPr>
          <a:xfrm>
            <a:off x="6000840" y="5000760"/>
            <a:ext cx="1290600" cy="1712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627">
                                            <p:txEl>
                                              <p:pRg st="0" end="0"/>
                                            </p:txEl>
                                          </p:spTgt>
                                        </p:tgtEl>
                                        <p:attrNameLst>
                                          <p:attrName>style.visibility</p:attrName>
                                        </p:attrNameLst>
                                      </p:cBhvr>
                                      <p:to>
                                        <p:strVal val="visible"/>
                                      </p:to>
                                    </p:set>
                                    <p:animEffect filter="box(in)" transition="in">
                                      <p:cBhvr additive="repl">
                                        <p:cTn id="70" dur="500"/>
                                        <p:tgtEl>
                                          <p:spTgt spid="162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627">
                                            <p:txEl>
                                              <p:pRg st="1" end="1"/>
                                            </p:txEl>
                                          </p:spTgt>
                                        </p:tgtEl>
                                        <p:attrNameLst>
                                          <p:attrName>style.visibility</p:attrName>
                                        </p:attrNameLst>
                                      </p:cBhvr>
                                      <p:to>
                                        <p:strVal val="visible"/>
                                      </p:to>
                                    </p:set>
                                    <p:animEffect filter="box(in)" transition="in">
                                      <p:cBhvr additive="repl">
                                        <p:cTn id="75" dur="500"/>
                                        <p:tgtEl>
                                          <p:spTgt spid="162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627">
                                            <p:txEl>
                                              <p:pRg st="2" end="2"/>
                                            </p:txEl>
                                          </p:spTgt>
                                        </p:tgtEl>
                                        <p:attrNameLst>
                                          <p:attrName>style.visibility</p:attrName>
                                        </p:attrNameLst>
                                      </p:cBhvr>
                                      <p:to>
                                        <p:strVal val="visible"/>
                                      </p:to>
                                    </p:set>
                                    <p:animEffect filter="box(in)" transition="in">
                                      <p:cBhvr additive="repl">
                                        <p:cTn id="80" dur="500"/>
                                        <p:tgtEl>
                                          <p:spTgt spid="1627">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627">
                                            <p:txEl>
                                              <p:pRg st="3" end="3"/>
                                            </p:txEl>
                                          </p:spTgt>
                                        </p:tgtEl>
                                        <p:attrNameLst>
                                          <p:attrName>style.visibility</p:attrName>
                                        </p:attrNameLst>
                                      </p:cBhvr>
                                      <p:to>
                                        <p:strVal val="visible"/>
                                      </p:to>
                                    </p:set>
                                    <p:animEffect filter="box(in)" transition="in">
                                      <p:cBhvr additive="repl">
                                        <p:cTn id="85" dur="500"/>
                                        <p:tgtEl>
                                          <p:spTgt spid="16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atterns and times of breeding</a:t>
            </a:r>
            <a:endParaRPr b="0" lang="en-US" sz="5000" spc="-1" strike="noStrike">
              <a:solidFill>
                <a:srgbClr val="04617b"/>
              </a:solidFill>
              <a:latin typeface="Calibri"/>
            </a:endParaRPr>
          </a:p>
        </p:txBody>
      </p:sp>
      <p:sp>
        <p:nvSpPr>
          <p:cNvPr id="16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emales of most mammalian species will accept males for mating only at limited times of the ye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these times the females of non-human mammals are said to be in </a:t>
            </a:r>
            <a:r>
              <a:rPr b="0" lang="en-AU" sz="2600" spc="-1" strike="noStrike">
                <a:solidFill>
                  <a:srgbClr val="ff0000"/>
                </a:solidFill>
                <a:latin typeface="Constantia"/>
              </a:rPr>
              <a:t>oestrus</a:t>
            </a:r>
            <a:r>
              <a:rPr b="0" lang="en-AU" sz="2600" spc="-1" strike="noStrike">
                <a:solidFill>
                  <a:srgbClr val="000000"/>
                </a:solidFill>
                <a:latin typeface="Constantia"/>
              </a:rPr>
              <a:t> (heat)</a:t>
            </a:r>
            <a:endParaRPr b="0" lang="en-US" sz="2600" spc="-1" strike="noStrike">
              <a:solidFill>
                <a:srgbClr val="000000"/>
              </a:solidFill>
              <a:latin typeface="Constantia"/>
            </a:endParaRPr>
          </a:p>
        </p:txBody>
      </p:sp>
      <p:pic>
        <p:nvPicPr>
          <p:cNvPr id="1633" name="Picture 3" descr="RKSXCAYIMEHBCALH3ZDQCAH1IFU3CAJ0IK02CA4HZZXECAP0B8ADCAMSUX6HCAUEPK2RCA71TGD3CAG2WJVYCASB6B92CAZBT521CAAVJPTWCA562IATCASQFGP6CA09J8EICA3A6BC6CAYG8HL2CAOTCK1Q.jpg"/>
          <p:cNvPicPr/>
          <p:nvPr/>
        </p:nvPicPr>
        <p:blipFill>
          <a:blip r:embed="rId1"/>
          <a:stretch/>
        </p:blipFill>
        <p:spPr>
          <a:xfrm>
            <a:off x="785880" y="4429080"/>
            <a:ext cx="2751120" cy="1990800"/>
          </a:xfrm>
          <a:prstGeom prst="rect">
            <a:avLst/>
          </a:prstGeom>
          <a:ln w="0">
            <a:noFill/>
          </a:ln>
        </p:spPr>
      </p:pic>
      <p:pic>
        <p:nvPicPr>
          <p:cNvPr id="1634" name="Picture 4" descr="images9.jpg"/>
          <p:cNvPicPr/>
          <p:nvPr/>
        </p:nvPicPr>
        <p:blipFill>
          <a:blip r:embed="rId2"/>
          <a:stretch/>
        </p:blipFill>
        <p:spPr>
          <a:xfrm>
            <a:off x="3929040" y="4394160"/>
            <a:ext cx="1571760" cy="2021040"/>
          </a:xfrm>
          <a:prstGeom prst="rect">
            <a:avLst/>
          </a:prstGeom>
          <a:ln w="0">
            <a:noFill/>
          </a:ln>
        </p:spPr>
      </p:pic>
      <p:pic>
        <p:nvPicPr>
          <p:cNvPr id="1635" name="Picture 5" descr="images11.jpg"/>
          <p:cNvPicPr/>
          <p:nvPr/>
        </p:nvPicPr>
        <p:blipFill>
          <a:blip r:embed="rId3"/>
          <a:stretch/>
        </p:blipFill>
        <p:spPr>
          <a:xfrm>
            <a:off x="5786280" y="4429080"/>
            <a:ext cx="2803680" cy="19191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632">
                                            <p:txEl>
                                              <p:pRg st="0" end="0"/>
                                            </p:txEl>
                                          </p:spTgt>
                                        </p:tgtEl>
                                        <p:attrNameLst>
                                          <p:attrName>style.visibility</p:attrName>
                                        </p:attrNameLst>
                                      </p:cBhvr>
                                      <p:to>
                                        <p:strVal val="visible"/>
                                      </p:to>
                                    </p:set>
                                    <p:animEffect filter="box(in)" transition="in">
                                      <p:cBhvr additive="repl">
                                        <p:cTn id="92" dur="500"/>
                                        <p:tgtEl>
                                          <p:spTgt spid="163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632">
                                            <p:txEl>
                                              <p:pRg st="1" end="1"/>
                                            </p:txEl>
                                          </p:spTgt>
                                        </p:tgtEl>
                                        <p:attrNameLst>
                                          <p:attrName>style.visibility</p:attrName>
                                        </p:attrNameLst>
                                      </p:cBhvr>
                                      <p:to>
                                        <p:strVal val="visible"/>
                                      </p:to>
                                    </p:set>
                                    <p:animEffect filter="box(in)" transition="in">
                                      <p:cBhvr additive="repl">
                                        <p:cTn id="97" dur="500"/>
                                        <p:tgtEl>
                                          <p:spTgt spid="16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22:08Z</dcterms:created>
  <dc:creator>Lyn Clarkson</dc:creator>
  <dc:description/>
  <dc:language>en-US</dc:language>
  <cp:lastModifiedBy>Lyn Clarkson</cp:lastModifiedBy>
  <dcterms:modified xsi:type="dcterms:W3CDTF">2007-09-12T00:06:08Z</dcterms:modified>
  <cp:revision>14</cp:revision>
  <dc:subject/>
  <dc:title>Slide 1</dc:title>
</cp:coreProperties>
</file>